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D7D-66CB-479E-9497-72D7F574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B3D-5B55-48A2-A9D5-2A89281E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44E-7CCC-416E-80D0-F272DB4A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3C8-7899-40A8-9922-185F3D0C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3E5-F29E-4D3F-8AA0-25D0153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D92-DE55-45BE-9E77-FF1C6E47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A81-55CF-4AB9-A9F5-65098CC9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DD2-B4B2-411C-B0F8-C091363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25D-0D85-4128-8E68-F9E4CAB5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E6F-BCC5-4CCD-B377-596618A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731-8002-441B-B57D-5BF8AF1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FB1-E137-481F-AB4F-0A25967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7080-1822-41C9-9DAA-0B2DE398B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5238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5238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42640" y="38098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142640" y="35812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30481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30481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4290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0481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800000">
            <a:off x="30481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0481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800000">
            <a:off x="30481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290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43040" y="2743200"/>
            <a:ext cx="762480" cy="1828800"/>
            <a:chOff x="4343040" y="2743200"/>
            <a:chExt cx="762480" cy="1828800"/>
          </a:xfrm>
        </p:grpSpPr>
        <p:sp>
          <p:nvSpPr>
            <p:cNvPr id="65" name=""/>
            <p:cNvSpPr/>
            <p:nvPr/>
          </p:nvSpPr>
          <p:spPr>
            <a:xfrm rot="10800000">
              <a:off x="43430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10800000">
              <a:off x="43430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242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7242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43430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10800000">
              <a:off x="43430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242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7242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3430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0800000">
              <a:off x="43430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7242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43430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43430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47242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142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4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286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868000" y="1295280"/>
            <a:ext cx="1517040" cy="648000"/>
            <a:chOff x="5868000" y="1295280"/>
            <a:chExt cx="1517040" cy="648000"/>
          </a:xfrm>
        </p:grpSpPr>
        <p:sp>
          <p:nvSpPr>
            <p:cNvPr id="90" name=""/>
            <p:cNvSpPr/>
            <p:nvPr/>
          </p:nvSpPr>
          <p:spPr>
            <a:xfrm rot="10800000">
              <a:off x="66312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0800000">
              <a:off x="58676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25146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2485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39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9436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52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 der Schwingung mit ungeladenem Kondens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238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238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809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4264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0481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10800000">
            <a:off x="30481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290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0481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10800000">
            <a:off x="30481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290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0481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 rot="10800000">
            <a:off x="30481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4290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2743200"/>
            <a:ext cx="762480" cy="1828800"/>
            <a:chOff x="4343040" y="2743200"/>
            <a:chExt cx="762480" cy="1828800"/>
          </a:xfrm>
        </p:grpSpPr>
        <p:sp>
          <p:nvSpPr>
            <p:cNvPr id="133" name=""/>
            <p:cNvSpPr/>
            <p:nvPr/>
          </p:nvSpPr>
          <p:spPr>
            <a:xfrm rot="10800000">
              <a:off x="43430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10800000">
              <a:off x="43430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242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43430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0800000">
              <a:off x="43430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7242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43430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10800000">
              <a:off x="43430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242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43430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 rot="10800000">
              <a:off x="43430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47242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142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144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86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868000" y="1295280"/>
            <a:ext cx="1517040" cy="648000"/>
            <a:chOff x="5868000" y="1295280"/>
            <a:chExt cx="1517040" cy="648000"/>
          </a:xfrm>
        </p:grpSpPr>
        <p:sp>
          <p:nvSpPr>
            <p:cNvPr id="158" name=""/>
            <p:cNvSpPr/>
            <p:nvPr/>
          </p:nvSpPr>
          <p:spPr>
            <a:xfrm rot="10800000">
              <a:off x="66312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0800000">
              <a:off x="58676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>
            <a:off x="25146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485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7239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9436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U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+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209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8954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2057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34340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238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238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2640" y="38098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142640" y="35812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30481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10800000">
            <a:off x="30481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290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30481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10800000">
            <a:off x="30481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0481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10800000">
            <a:off x="30481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290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343040" y="2743200"/>
            <a:ext cx="762480" cy="1828800"/>
            <a:chOff x="4343040" y="2743200"/>
            <a:chExt cx="762480" cy="1828800"/>
          </a:xfrm>
        </p:grpSpPr>
        <p:sp>
          <p:nvSpPr>
            <p:cNvPr id="206" name=""/>
            <p:cNvSpPr/>
            <p:nvPr/>
          </p:nvSpPr>
          <p:spPr>
            <a:xfrm rot="10800000">
              <a:off x="43430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0800000">
              <a:off x="43430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242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242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43430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0800000">
              <a:off x="43430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7242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43430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0800000">
              <a:off x="43430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7242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43430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10800000">
              <a:off x="43430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H="1">
            <a:off x="47242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5142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1144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286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68000" y="1295280"/>
            <a:ext cx="1517040" cy="648000"/>
            <a:chOff x="5868000" y="1295280"/>
            <a:chExt cx="1517040" cy="648000"/>
          </a:xfrm>
        </p:grpSpPr>
        <p:sp>
          <p:nvSpPr>
            <p:cNvPr id="231" name=""/>
            <p:cNvSpPr/>
            <p:nvPr/>
          </p:nvSpPr>
          <p:spPr>
            <a:xfrm rot="10800000">
              <a:off x="66312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0800000">
              <a:off x="58676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25146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2485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7239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9436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9718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810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9810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599840" y="3809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9984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862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35053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 rot="10800000">
            <a:off x="35053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8862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5053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 rot="10800000">
            <a:off x="35053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35053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35053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862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00240" y="2743200"/>
            <a:ext cx="762480" cy="1828800"/>
            <a:chOff x="4800240" y="2743200"/>
            <a:chExt cx="762480" cy="1828800"/>
          </a:xfrm>
        </p:grpSpPr>
        <p:sp>
          <p:nvSpPr>
            <p:cNvPr id="273" name=""/>
            <p:cNvSpPr/>
            <p:nvPr/>
          </p:nvSpPr>
          <p:spPr>
            <a:xfrm rot="10800000">
              <a:off x="48002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10800000">
              <a:off x="48002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814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1814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48002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 rot="10800000">
              <a:off x="48002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14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1814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48002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0800000">
              <a:off x="48002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14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1814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800000">
              <a:off x="48002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10800000">
              <a:off x="48002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51814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9714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5716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0858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25200" y="1295280"/>
            <a:ext cx="1517040" cy="648000"/>
            <a:chOff x="6325200" y="1295280"/>
            <a:chExt cx="1517040" cy="648000"/>
          </a:xfrm>
        </p:grpSpPr>
        <p:sp>
          <p:nvSpPr>
            <p:cNvPr id="298" name=""/>
            <p:cNvSpPr/>
            <p:nvPr/>
          </p:nvSpPr>
          <p:spPr>
            <a:xfrm rot="10800000">
              <a:off x="70884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0800000">
              <a:off x="63248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29718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057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1811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4008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U = -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-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-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3657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+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3124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28195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62920" y="1905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41148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19810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858000" y="1752480"/>
            <a:ext cx="457200" cy="642600"/>
            <a:chOff x="6858000" y="1752480"/>
            <a:chExt cx="457200" cy="642600"/>
          </a:xfrm>
        </p:grpSpPr>
        <p:sp>
          <p:nvSpPr>
            <p:cNvPr id="323" name=""/>
            <p:cNvSpPr/>
            <p:nvPr/>
          </p:nvSpPr>
          <p:spPr>
            <a:xfrm>
              <a:off x="6922800" y="20235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8000" y="1752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638680" y="380880"/>
            <a:ext cx="457200" cy="642600"/>
            <a:chOff x="5638680" y="380880"/>
            <a:chExt cx="457200" cy="642600"/>
          </a:xfrm>
        </p:grpSpPr>
        <p:sp>
          <p:nvSpPr>
            <p:cNvPr id="326" name=""/>
            <p:cNvSpPr/>
            <p:nvPr/>
          </p:nvSpPr>
          <p:spPr>
            <a:xfrm>
              <a:off x="5703480" y="6519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8680" y="380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1143000"/>
            <a:ext cx="457200" cy="642600"/>
            <a:chOff x="6934320" y="1143000"/>
            <a:chExt cx="457200" cy="642600"/>
          </a:xfrm>
        </p:grpSpPr>
        <p:sp>
          <p:nvSpPr>
            <p:cNvPr id="329" name=""/>
            <p:cNvSpPr/>
            <p:nvPr/>
          </p:nvSpPr>
          <p:spPr>
            <a:xfrm>
              <a:off x="6999120" y="141408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34320" y="1143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962520" y="380880"/>
            <a:ext cx="457200" cy="642600"/>
            <a:chOff x="3962520" y="380880"/>
            <a:chExt cx="457200" cy="642600"/>
          </a:xfrm>
        </p:grpSpPr>
        <p:sp>
          <p:nvSpPr>
            <p:cNvPr id="332" name=""/>
            <p:cNvSpPr/>
            <p:nvPr/>
          </p:nvSpPr>
          <p:spPr>
            <a:xfrm>
              <a:off x="4027320" y="6519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62520" y="380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28800" y="2590920"/>
            <a:ext cx="457200" cy="642600"/>
            <a:chOff x="1828800" y="2590920"/>
            <a:chExt cx="457200" cy="642600"/>
          </a:xfrm>
        </p:grpSpPr>
        <p:sp>
          <p:nvSpPr>
            <p:cNvPr id="335" name=""/>
            <p:cNvSpPr/>
            <p:nvPr/>
          </p:nvSpPr>
          <p:spPr>
            <a:xfrm>
              <a:off x="1893600" y="2862000"/>
              <a:ext cx="195840" cy="203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28800" y="2590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19520" y="914400"/>
            <a:ext cx="457200" cy="642600"/>
            <a:chOff x="2819520" y="914400"/>
            <a:chExt cx="457200" cy="642600"/>
          </a:xfrm>
        </p:grpSpPr>
        <p:sp>
          <p:nvSpPr>
            <p:cNvPr id="338" name=""/>
            <p:cNvSpPr/>
            <p:nvPr/>
          </p:nvSpPr>
          <p:spPr>
            <a:xfrm>
              <a:off x="2884320" y="118548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19520" y="914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V="1">
            <a:off x="6781680" y="1905120"/>
            <a:ext cx="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0" y="2666880"/>
            <a:ext cx="457200" cy="642600"/>
            <a:chOff x="6858000" y="2666880"/>
            <a:chExt cx="457200" cy="642600"/>
          </a:xfrm>
        </p:grpSpPr>
        <p:sp>
          <p:nvSpPr>
            <p:cNvPr id="342" name=""/>
            <p:cNvSpPr/>
            <p:nvPr/>
          </p:nvSpPr>
          <p:spPr>
            <a:xfrm>
              <a:off x="6922800" y="29379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0" y="2666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6781680" y="2819520"/>
            <a:ext cx="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10280" y="914400"/>
            <a:ext cx="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257800" y="609120"/>
            <a:ext cx="457200" cy="18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581280" y="609120"/>
            <a:ext cx="457200" cy="18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19520" y="1447920"/>
            <a:ext cx="144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828800" y="3048120"/>
            <a:ext cx="144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>
            <a:off x="8153280" y="5943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6094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jetzt 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153280" y="5181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20:17:33Z</dcterms:created>
  <dc:creator>Martin Oberleitner</dc:creator>
  <dc:description/>
  <dc:language>en-US</dc:language>
  <cp:lastModifiedBy>Martin Oberleitner</cp:lastModifiedBy>
  <dcterms:modified xsi:type="dcterms:W3CDTF">2003-04-27T21:29:56Z</dcterms:modified>
  <cp:revision>1</cp:revision>
  <dc:subject/>
  <dc:title>PowerPoint-Präsentation</dc:title>
</cp:coreProperties>
</file>